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E63-9091-49CF-BAB1-590ACB69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5FF-DFC1-4301-99DF-6689052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AD7-C3EB-4E01-B936-DFC65F26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97B-CB0E-4193-AE82-8CEDF063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CF7-F0C9-4397-8145-354C0349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A55-FA8C-4C7B-884B-738632F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E7D-8CD0-48B0-B891-A5F809D0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990-4905-4DB5-A613-2232601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B2E-3E6A-48D4-A48E-0B8F4B6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2E7-4A03-41F0-ADB6-66D5AE3C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32D-57AA-4013-9F35-BF99442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947-D8C7-48DE-9851-A9D62BC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42E8-D503-4DF5-BD20-DB5D98F26BDB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чланка за часопис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ана Живанчевић Симонови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Резултат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приказати табеларно или графички, уз кратак опис података који су представљ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ловима табеларних приказа јасно назначити шта је у табелама представље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абеларним пољима означити статистичке значајности између група испитаника, а испод табела навести нивое значајности за тестиране варијабле које ће омогућити да приказани резултати буду јасно растумачени без додатних описа у текстуалном делу Резулт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рафички приказ резултата изабрати најбољи графички облик, приказати значајности између група испитаника и у легенди испод графика детаљно навести шта је на њима представљено. Легенде треба да буду садржај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Уво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писати циљано према резултатима који су/ће у раду бити приказа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тко приказати разлоге за истражива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ени пробл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је познато о предмету истраживања (постојећи подац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у подручју истраживања није довољно испитано или резултати публикованих студија нису конзистентни, постоје специфичности циљане групе испитаник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истраж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365040"/>
            <a:ext cx="1127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Дискусиј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ити и коментарисати добијене резултате у односу на резултате других публикованих студија (у сагласности су са…, а нису сагласни са…., уз објашњење могућих разлога за сагласност или несагласност са другим студија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тарисати и друге релевантне детаље који могу утицати на добијене резултате (специфичности испитаника, време узорковања, осетљивост методе,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аћи значај добијених резултата за постојећа сазнања и указати на могуће импликације (допринос разумевању недовољно разјашњених механизама у патогенези болести, утицају на тежину клиничког испољавања и исходе болести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365040"/>
            <a:ext cx="11255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Закључц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е се само закључци који директно произилазе из резултата приказаних у 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1000" y="365040"/>
            <a:ext cx="11175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Референце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у наводити према упутству које је дато у часопи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писања водити рачуна о изворима који су коришћени приликом писања Увода, Материјала и метода и Дискус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зволити да се нека референца „изгуби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 рачуна о максималном броју референци за одређени формат 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Сажета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се писати на почетку, али је практичније формирати га кад су други делови рада напис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згровит приказ целог рада (задат је број реч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жетку се приказу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 истраживања и циљ рада (Шта је испитив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ци и методе, у пар реченица (Како је истраживање врш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резултати (Шта је добиј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 (Шта је закључ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ју сажетка: кључне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- Аутор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ство подразумева битан (интелектуални) допринос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њу и извођењу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у добијених резул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у рада (финалном уобличавању рукописа који се предаје часопис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аутори треба да буду упознати са коначним текстом рукописа и да одобре његово слање у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аутора одређује се према доприносу студији: први, последњи и аутор за коресподен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1800" y="365040"/>
            <a:ext cx="10972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конципиран тако да привуче паж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икава суштину р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кратак и прециз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4680" y="365040"/>
            <a:ext cx="11090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aljevic O, Zivancevic-Simonovic S, Jovanovic D, Drakulic SM, Vukajlovic JT, Markovic A, Pirkovic MS, Srejovic I, Jakovljevic V, Milosevic-Djordjevic O.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Oxidative stress and DNA damage in critically ill patients with sepsis.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tat Res Genet Toxicol Environ Mutagen. 2023 Jul;889:503655. doi: 10.1016/j.mrgentox.2023.503655. Epub 2023 Jun 30. PMID: 3749111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3400" y="365040"/>
            <a:ext cx="10993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vancevic-Simonovic S, Minic R, Cupurdija V, Stanojevic-Pirkovic M, Milosevic-Djordjevic O, Jakovljevic V, Mihaljevic O.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Transforming growth factor beta 1 (TGF-</a:t>
            </a:r>
            <a:r>
              <a:rPr b="0" lang="el-GR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β1)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in COVID-19 patients: relation to platelets and association with the disease outcome.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 Cell Biochem. 2023 Nov;478(11):2461-2471. doi: 10.1007/s11010-023-04674-7. Epub 2023 Mar 4. PMID: 36869188; PMCID: PMC9984293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 истраживањ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920880" y="1994040"/>
            <a:ext cx="982332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3040" y="365040"/>
            <a:ext cx="11050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vancevic-Simonovic S, Jovanovic D, Cupurdija V, Milosevic-Djordjevic O, Stanojevic M, Marinkovic M, Igrutinovic N, Stanojevic I, Vojvodic D, Mihaljevic O.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Cytokine producing ability of peripheral blood cells from COVID-19 patients after unspecific in vitro stimulation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flamm Res. 2022 Mar;71(3):331-341. doi: 10.1007/s00011-022-01543-9. Epub 2022 Feb 14. PMID: 35157090; PMCID: PMC88533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600" y="365040"/>
            <a:ext cx="10982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haljevic O, Zivancevic-Simonovic S, Milosevic-Djordjevic O, Djurdjevic P, Jovanovic D, Todorovic Z, Grujicic D, Radovic-Jakovljevic M, Tubic J, Markovic A, Paunovic M, Stanojevic-Pirkovic M, Markovic S.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Apoptosis and genome instability in children with autoimmune diseases.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genesis. 2018 Dec 31;33(5-6):351-357. doi: 10.1093/mutage/gey037. PMID: 304813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4600" y="365040"/>
            <a:ext cx="11031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Наслов ра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vancevic-Simonovic S, Mihaljevic O, Majstorovic I, Popovic S, Markovic S, Milosevic-Djordjevic O, Jovanovic Z, Mijatovic-Teodorovic L, Mihajlovic D, Colic M. </a:t>
            </a:r>
            <a:r>
              <a:rPr b="0" lang="sr-Latn-RS" sz="28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Cytokine production in patients with papillary thyroid cancer and associated autoimmune Hashimoto thyroiditis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ancer Immunol Immunother. 2015 Aug;64(8):1011-9. doi: 10.1007/s00262-015-1705-5. Epub 2015 May 14. PMID: 25971541; PMCID: PMC110297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ни (ревијски) чланак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црпан (што комплетнији) приказ објављених радова о некој специфичној теми истраж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је потребно да аутор добије позив од часописа да напише ревијски рад на задату т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 се квалификује за писање ревијског рада ранијим публикацијама (оригиналним научним радовима, тј. сопственим радовима из те области), који ће бити цитирани у ревијском 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саопштењ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communication, Preliminary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ње интересантног резултата у току истраживања, пре него што је оно заврше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не публиковати резултате непоновљених и неједнозначних експерим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неуобичајеног тока болести или реаговања на терап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етких болести, удруженог јављања неких болести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уреднику (уредништву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to the 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1 до 2 оригинална резултата у односу на неки чланак који је објављен у истом часопи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690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чланак (оригинални научни рад) је прво објављивање оригиналних резултата научног истраживања у научном часопис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ан услов: да резултати носе нову научну информацију, тј. да су оригинал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објављивања је строго формализ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формални облици научне комуникације с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ни чланак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rticl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саопште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communic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repor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уредништв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to the edito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лни облици научне комуникациј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ни чланак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pape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ни чланак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rticl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саопштењ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communicatio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repor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мо уредништв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to the edit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чланак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 чланак (оригинални научни рад) је прво објављивање оригиналних резултата научног истраживања у научном часопи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ан услов: да резултати носе нову научну информацију, тј. да су оригинал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објављивања је строго формализ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ригиналног научног члан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ни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РИД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R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јал и метод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rial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улта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86000" y="533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ригиналног научног члан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320" indent="-76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ИД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MRAD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) структура омогућава адекватан приказ истражив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Зашто је истраживање предузето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в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оји је дизајн студ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еријал и мето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та је нађено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акав је значај добијених резултат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скус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6320" indent="-76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Саставни делови научног рад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Насл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Аутори (са афилиацијам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Сажетак</a:t>
            </a:r>
            <a:r>
              <a:rPr b="1" lang="sr-Latn-C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структурисан или неструктурисан</a:t>
            </a:r>
            <a:r>
              <a:rPr b="1" lang="sr-Latn-C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, на крају кључне реч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Увод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ише се у садашњем времену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Материјал и методе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ише се у прошлом времену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ишу се у прошлом времену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Дискусиј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ише се у садашњем времену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Закључак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Захвалница (извор финансирања, број пројекта, …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исања, реално сагледати добијене резулта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 једном прегледати новије публиковане радове, да није било радова са сличном тематиком и резултат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тематици и квалитету добијених резултата одабрати часоп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љно проучити упутство ауторима за припрему рада за часопи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обим рад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сани или неструктурисани сажетак, са бројем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прилога (табела и/или графико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при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и број референци (ако постоји огранич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11177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ње научног чланка за часопис – Материјал и методе (пацијенти и методе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писати тако да се истраживање може поновити и закључци провер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љно приказати </a:t>
            </a:r>
            <a:r>
              <a:rPr b="1" lang="sr-RS" sz="2600" spc="-1" strike="noStrike">
                <a:solidFill>
                  <a:srgbClr val="ed7d31"/>
                </a:solidFill>
                <a:latin typeface="Times New Roman"/>
                <a:ea typeface="Times New Roman"/>
              </a:rPr>
              <a:t>методологиј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цитирати референце које се односе на методе, и описати модификације оригиналних метода (уколико их је бил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ти одлуку Етичког комитета који је одобрио истраживање (које је спроведено уз писани пристанак хуманих субјеката) или одобрење Етичког одбора за истраживање на експерименталним животињ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ати број субјеката у експерименталним и контролним групама, укључујуће и искључујуће критеријум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ка обрада подата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0-31T19:54:52Z</dcterms:created>
  <dc:creator>Sneza</dc:creator>
  <dc:description/>
  <dc:language>en-US</dc:language>
  <cp:lastModifiedBy>Sneza</cp:lastModifiedBy>
  <dcterms:modified xsi:type="dcterms:W3CDTF">2024-11-05T10:36:03Z</dcterms:modified>
  <cp:revision>29</cp:revision>
  <dc:subject/>
  <dc:title/>
</cp:coreProperties>
</file>