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4DA-2A2F-454F-A57C-6F3C0778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A5EF-B684-4870-909C-6FE1B513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F3E-F7F0-4FC3-BC95-9D4B318A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62F-B8F7-4ABF-85C4-71D8F8BE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15A-A528-4E87-AEDC-CED81C9D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F2A-DA0A-4CF4-B9A2-5CF74801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366-846C-4974-9700-DBFC9679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E0F-9C20-4B3F-BBD4-3B6A4561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172-D631-4FB5-8811-6F8B2D9B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744A-5242-4A56-91F0-A44C079E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BBF-284F-45E0-BC9C-9A4676C1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319-4EAD-4BEC-99CE-569A94E1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19BB-5DDD-492B-8843-E5CEDA062032}" type="slidenum">
              <a:rPr b="0" lang="sr-Latn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: дефиниција, елементи, историја, класификациј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Снежана Живанчевић Симонов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200" y="169920"/>
            <a:ext cx="11039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а науке (три главне развојне фазе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3600" y="1252440"/>
            <a:ext cx="10515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фаза – јединственост наук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284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чко доба и рани средњи в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284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уци није било диференцијациј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зофија је била једина наука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зофија је ка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над наукам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ла сва људска знања о природи, друштву и мишље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фаза – почетак и интензивирање процеса диференцијације нау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284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обље од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18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284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филозофије се одвајају посебне наук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 математик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к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рономи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тим и физика, хемија, биологија, геологија, социологија и психоло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а фаза – детаљнија диференцијациј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истовремену интеграцију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их научних дисциплина у научна подруч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284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ак у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у, траје и данас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284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ијација науке праћена је континуираним процесом дијалектичког повез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а наук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ма проучав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има истраживањ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ма истраживањ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експерименталне и неексперименталне, мада се неке науке не могу сврстати само у једну групу, користе обе методе у појединим фазама истраживањ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науке према областима проучавањ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е науке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, физика, биологија, математика и геонаук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науке (медицина, стоматологија, фармација, ветери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ке наук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5 научних пољ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техничке нау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анитарн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зофске наук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8 научних пољ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штвене науке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научних пољ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чке нау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науке: природне наук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е наук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нау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е наук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учавају природу у најопштијем смислу речи (различите облике кретања материје у природ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науке: друштвене наук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штвене нау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логиј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иј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штвене наук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учавају друштвени живот, облике и законе постојања и развоја друштва као целине друштвених појава, али и поједине друштвене појаве и подручја жив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науке: медицинске наук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мат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дисциплинарне наук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номенклатури коју је донео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S CO 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ј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 o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њу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ци и култур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дисциплинарне науке су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дисциплинарне нау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тидисциплинарне нау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дисциплинарне нау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дисциплинарне нау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дисциплинарне наук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дисциплинарност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поставља интерактивно повезивање две или више научних дисциплина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ака, грана, пољ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учни систем вишег ран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тидисциплинарност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тпоставља сучељавање више различитих научних дисциплина међу којима не постоји уочљива веза, тј. међу којима нема директне повезаности, директне компатибилности и комплементарн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дисциплинарне наук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дисциплинарност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 интерактивно повезивање две или више научних дисциплина (огранака, грана или поља науке) у научни систем вишег ранга него сто је у систему интердисциплинарних нау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ридисциплинарност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 повезивање више различитих дисциплина које су директно или индиректно међусобно повезане у одређеном степену, компатибилне су и комплементарн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науке према нивоима истраживањ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1825560"/>
            <a:ext cx="105156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даментална или базична истражив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мерена ка повећању општег знања и немају задатак да одмах одговоре на практична питања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назив: фундаментална неусмере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шка истражив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е знање до оне тачке када се оно може практично применити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назив: фундаментална усмере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ена истраживањ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а тако да одговоре на неко практично питање и очекује се да до примене резултата дође у периоду од 12 година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а истраживањ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мерена ка усавршавању већ познатих метода и техника или ка примени раније генерализованог знања у неким посебним случајев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је наука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о људско знање о објективној стварности природе и друш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ост истинитих и систематизованих знања до којих људи долазе одређеним методама о свету који их окружује и њима сам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укључује пут сазнавања и знање које је на тај начин акумулиран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је систем објективног знања, теоријског објашњења и поузданог предвиђа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ntia</a:t>
            </a:r>
            <a:r>
              <a:rPr b="0" i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и закон и научна теор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и закон 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највиши циљ сваке науке, највиши облик научног сазнањ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ује се као исказ о објективно постојећој, нужној и суштинској вези између пој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а теориј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ставља смислену повезаност општих поставки на основу којих се објашњава неко подручје појава, чињениц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ата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уци, укратк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а карактеристика науке је њена стабилнос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упротном, све би почињало из почетка, после сваког новог открић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так науке није рушење старог, него испреплетаност и нераздвојивост старих и нових идеја (открић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 не уклања старо, оно га само допуњ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научног открића је у градитељским, а не у рушилачким потенцијалима (најчешће, раније установљена знања остају непромењена, само се допуњуј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није наука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шај доказивања одређених тврдњи ненаучним метод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ци се извлаче из непоновљивих и неједнозначних експеримената или користећи претпоставке које нису у складу са добро установљеним чињениц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: не дозволити да се преувеличају резултати незавршених истраж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вољно испитана идеја се проглашава за установљену истину, то што јој не иде у прилог се прећуткује или крије, а истиче оно што је потврђ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так наук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7720" y="1825200"/>
            <a:ext cx="106981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задатак науке је откривање истине, односно утврђивање законитости природних и друштвених појава, до чега се долази применом објективних научних мет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 закона у природи, друштву и људском мишљењ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, класификација и објашњење веза, односа и структуре између елемената, чињеница и својстава неке појаве, процеса или творев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ње поузданих прогн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так наук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ме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јашње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ђ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ици откривају нове чињенице које се односе на предмет истраживања, интерпретирају их у односу на претходно знање, доприносе бољем разумевању, објашњењу и/или предвиђању појава које су на неки начин повез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који детерминишу појам наук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ски тренутак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јективна стварност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знања о објекту научног истраживања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ледна и свесна примена научних метода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мевање природних и друштвених појава у прошлости и садашњости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јектовање, прогнозирање и предвиђање природних и друштвених појава у будућности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иривање и продубљивање сазнања о природним и друштвеним феноменима из прошлости и садашњости, за њихов развитак у будућ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е претпоставке за бављење науком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825560"/>
            <a:ext cx="105156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и друштво су уређени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њима постоје одређене правил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ости је могуће поуздано открити искључиво научним метод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е имају узроке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 је детерминиса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ње стечено научним методама је супериорно у односу на друге облике сазн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ње стечено научним методама није само себи сврха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води контроли над природом и друштв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научног сазнањ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мељеност у емпиријској стварности (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јективност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клађеност са постојећим знањ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трактност и обухватност (надилажење случа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истентност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ка доследност и једноставност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љивост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што није могуће проверити не задовољава критеријум за научно објашњење неке појаве/процеса/догађа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научног сазнањ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јективност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матичност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цизнос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ат развоја наук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се циклично развијала у свим цивилизацијама на планети Земљи више хиљада го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0-30T19:40:26Z</dcterms:created>
  <dc:creator>Sneza</dc:creator>
  <dc:description/>
  <dc:language>en-US</dc:language>
  <cp:lastModifiedBy>Sneza</cp:lastModifiedBy>
  <dcterms:modified xsi:type="dcterms:W3CDTF">2024-11-05T09:47:05Z</dcterms:modified>
  <cp:revision>71</cp:revision>
  <dc:subject/>
  <dc:title/>
</cp:coreProperties>
</file>